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F89D-93A0-4D2A-AEA2-968699D1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6F1E-2574-460C-978D-F27C90FF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7A7A8-FC1E-4E08-8A78-32C9DB9D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49858-62D6-4BAD-A41B-06CC203E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5AF36-FAA7-49A3-A7F2-D18F11F9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296EC-068A-4B85-9D81-0B9CF09C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E0A75-E8B9-4E10-AD1D-96291A79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A67C6-6232-4045-82D6-F03F5FF1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C23F7-7404-4223-AD24-A5008614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B7E7D-B496-4B5A-BF79-1C7C83BC2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681261-C587-4363-BD99-D95BAD34C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0EBE0E-5DE1-445D-880D-13E799716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CFA0-4E65-4E4D-BA7B-623B7A846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7E85C8-815A-4F0A-8078-FE241289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9EF20A-7AB2-488F-BBE9-216BD5CA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F17C45-88AF-4CDB-9931-7BF46584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7BAF0-60E0-43CA-A088-18359EF9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51C67-A760-49A9-9DE0-D9B1EF60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95E5A2-1657-4E9D-8A3C-A9D279F4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B6ECD7-18E5-43AA-A12D-E41F0414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1C8F52-C84D-4D82-8A90-29E11668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77EC2-CCE7-4359-A816-215D8B3B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E17F68-88A3-4E8D-A9D9-2D244E31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4F1A-DECA-4AF8-A703-E45B16CE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7B6F08-5FF0-49BE-A605-1D9880FDA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B3556-AF64-4845-B1A9-F86A54556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B7B82-BF42-483B-8A58-FC6D10F1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60A4F-BD6A-46BD-B525-ED41A3BC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E2553-CDF8-408D-BD75-5278AF7A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ECB73-1D4A-4CEF-8018-558F3227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BE500-8922-425E-B4D5-82F8986C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45CB4-06E8-4F71-8A5F-8C8EEC95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03FA3-C764-4AF0-896B-D98E6AB3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9B2FF-5769-4F89-8199-E9090E50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C7CB-F8BA-49AB-9E16-D7EA187F6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5CDAB-1771-411F-9CDE-4A3A41E6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62410-5B78-4832-B290-612E1777D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7B7CA-57E8-4ED1-B4FD-2AFD5AA2C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51C597-129B-4C8C-BC34-C4BB9B21C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101C83-9649-4EC3-9E93-52A5DBCD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EEEEA5-FC16-4622-99B5-19FC2AC9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B17E11-00FC-4705-A039-D59A848C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5B8DD9-6B27-4987-B357-58E95755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49C26A-5A02-44C5-9347-B817A26E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F53212-81F5-4AB8-9EF4-5A1DEF44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E38D-3C80-445C-8BD6-6F79568E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9E4160-AE8B-4306-BCBB-1DDC6EA0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55D1A-A27F-4D17-BFFA-2AAB5AE2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B1737C-27F1-479E-BBDE-7F20BDC8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FFCDA8-B697-429D-A82E-9461B3A04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248F80-7906-4FCF-AB2E-29BD967EC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8D53-EBA8-438F-98D5-CFA66ADF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3D32-2B12-4698-A297-28B6AB4D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556C-B3E6-4CD4-BCBD-D149899B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895C-1310-4E0B-ADD9-71A1A515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356F-7655-48F2-98C3-EBAAA111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A90A-7226-4201-98D9-1066B06F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DF2C-AD92-46BA-9437-46E08C88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EA75-9176-46BD-9214-508D1F73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0A20-BC06-4B07-8CED-E9DDED00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3E37-AAC3-433A-9337-38F27FBA4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B787-FFF8-4F98-9CA2-99B751F85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23E27-85AF-424B-A3F6-B6700EFC5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9DADA-B412-42A4-BFC9-A69F7FD2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5DDF2-5331-4833-B663-BC2A5163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AD962-FCFA-42A7-AE6B-548EE319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70E5A-8279-4D25-BBF9-367CC840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CD81-BFF6-491A-A01E-9496CD64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2EA5B-1D42-4B60-B8DB-745E6D1B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3C097-8B60-4B52-996D-84EC06AB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C3691-9BD1-4D5B-B23E-02BF6027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40D6F-C6C7-4F47-B408-87A8B091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203EC-835D-47FF-BD89-4C12DA9F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E08FD-1A66-413F-9BE3-1CC5D9596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05104-54BF-4192-A399-F99449318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33859-3AEB-48BA-9883-E44E3BE1B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81AE3-8EF9-48B6-8E06-956A2C37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07B03-5CE4-4325-B638-F739A4D6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3778-DC7A-48FE-956A-A12A25A8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D2D09-D96B-4999-B15C-77F842E7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80373-C7D0-4828-BE0B-37090743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EB879-A0C6-44C0-99EA-48E6FF94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D52B8-C8AD-49A4-A49D-28B258B3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C9DEC-6B91-4168-86BA-5E6C0810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C3911-96B2-4957-97BF-A6B7FA97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B2905-5F21-4A77-A009-9C1ECDB1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70087-7293-4852-BDC6-E5BB9A20E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43189-06D7-479F-ACCA-82D47A7E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F6751-4BC0-4338-82CD-FEE56D863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D833-CAD1-4F9A-90C6-CC2E91F1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B624F-2D50-463B-8A89-0E51D772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78E2D-B0CC-4CA1-BEBB-6E01E95F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7BBC3-C654-4951-9232-DB0CF528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B4B78-35F3-40F4-8A7B-775886A4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CA92A-580F-467D-AC73-612C56E4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AE275-DC60-4B2A-8065-E7581D59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BF47C-466A-4A7A-B394-53CCEAE1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26289-9F39-4891-B886-71AF20CC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AE268-4522-4EAE-934E-53F8C940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0373A-28C0-4E32-824B-97DC0A399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44DF-AF10-4D2C-A148-ACBC5364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231D8-87AE-4915-9E5D-8294D0D15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142DE-E5C6-4A8B-9F7B-1B0056CC7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C4479-C4FF-4072-A014-D68E97BE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57F38-C5F9-4600-9F1C-61350866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9908F-AFF9-4C87-B6C2-71C29C6C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2A5A5-CE2E-4B73-BA15-456841EB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BCE99-F1C9-4C4F-91F1-E9AF5B22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D5AE7-6AD8-4DC3-A9BA-6A2448DA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483C9-E0FE-4A76-B30F-5E529E30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E718D-0874-4F9B-A1F8-1C63565F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C6FA-A60A-49B2-8FF1-371EEBDC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5D7D8-A219-46B2-A541-428FE4AE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7140F-3961-4BF4-93C5-10BA192B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C4040-07E6-4C37-8E8B-65416B1A7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C6A59-EF89-462D-A279-B2CDCA33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21342-52F8-4691-9DF7-7FC1EE8C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7CC31-B721-4B5E-A0EE-742B7C90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19C55-636F-4D6B-BAF3-71F27E3E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39BF2-5638-4DC4-8742-BE739CAA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57DF9-5B21-4943-8F18-B0372D0B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1AC6A-868C-48F4-90F3-8D28E646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3F4F-BFDC-4306-B5FF-B1BB40ED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0763F-CCCA-4A50-8211-C04863BE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3EFA3-1248-4D1C-B4C7-143ECA76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4BAA5-8E75-47DE-8124-3895DBFB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B87D4-C2ED-4E44-A4D0-46DDED4C4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2EFE7-CD9C-49DE-9CE8-49D15C72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B8721-13B8-4C4E-8205-6E6EDFCF3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7BF26-34FA-465C-9B05-43AF6FD8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7A1D0-4FBA-4320-9BCE-4994F296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2DF85-024C-4124-BFC1-DC773538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4740B-5B88-4E99-B507-0C26ADF8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BDD5-83C9-4756-B097-204B0539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1A95D-5AD1-4F5A-AC88-397916DE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B511D-181C-4607-81C0-51C1864A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D0C17-41E3-4534-B3FD-CDCF47DD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6ACF1-456F-4BC0-A3F4-62CAA092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DFC10-9003-4076-8C8D-5DDEBC45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6F33A-C844-4983-A7A0-37A35CBDE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E52FF-2102-4DEA-AAF5-1A56830C3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5C2B3-CE5E-4BB1-876A-337A79638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4EEF0C-1D21-4614-B161-8CAD6DFD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F8EBF-5850-4E1C-AF5C-CFB20E62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1613-A01B-46AA-8227-7C9B234F233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688D-84E1-46FE-B02E-275058B4AA1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FC33-E2EA-469C-8A5B-0CC1A6A9E37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7253-248C-425C-B4D2-3D4A08866CC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9079-2A38-4FF1-A786-27908E261E9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360F-6338-48B9-A794-851E30FF98F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D5DA-C0C1-406F-BCAC-E3AD0396296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885A-8BB9-475D-83EF-4276919C129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1F0D-B3D0-40EF-9A09-207DBB4CEFB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C7F0-01A5-4ECD-BBF2-A12B67B07E1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AB5A-D518-42E3-BA13-686B27067F2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BE81-0B49-46AF-8830-BEAC1001F58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rosv.ru/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e36406"/>
                </a:solidFill>
                <a:uFillTx/>
                <a:latin typeface="Calibri"/>
              </a:rPr>
              <a:t>Сложноподчиненные предложе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3314880" y="3786120"/>
            <a:ext cx="582912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204"/>
                </a:solidFill>
                <a:latin typeface="Calibri"/>
              </a:rPr>
              <a:t>Авторы: Иванова Ирина, Попова Мария, Павлов Константин. 9 «в» класс, г. Сыктывкар. Пушкинская гимназ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0092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204"/>
                </a:solidFill>
                <a:latin typeface="Calibri"/>
              </a:rPr>
              <a:t>Примеры СПП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999720"/>
            <a:ext cx="804384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98420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Деревня, </a:t>
            </a: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где скучал Евгений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, была прелестный уголок. СПП с придаточным определитель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98420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Дядюшка пел так, </a:t>
            </a: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как поет простой народ.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СПП с придаточным обстоятельственным (образа действ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98420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Он знал,</a:t>
            </a: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 что основа всего – нравственность.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СПП  с придаточным изъяснительны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98420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Его не было дома, </a:t>
            </a: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почему я и оставил записку.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СПП с придаточным присоедин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98420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Если солнце не потушат,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будут зайчики всегда. СПП с придаточным обстоятельственным (уступк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204"/>
                </a:solidFill>
                <a:latin typeface="Calibri"/>
              </a:rPr>
              <a:t>Информационные ресурс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d0d0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Calibri"/>
                <a:hlinkClick r:id="rId1"/>
              </a:rPr>
              <a:t>http://www.prosv.ru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d0d0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http://www.lingvotech.com/klasssp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d0d0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Бабайцева В. В., Чеснокова Л. Д. Русский язык. Теория. 5-9 клас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d0d0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Бунеев Р. Н., Бунеева Е. В Русский язык. Учебник для 9 класса основной школы. – М. : 2006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11512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84204"/>
                </a:solidFill>
                <a:latin typeface="Calibri"/>
              </a:rPr>
              <a:t>Культура речи </a:t>
            </a:r>
            <a:r>
              <a:rPr b="0" lang="ru-RU" sz="4400" spc="-1" strike="noStrike">
                <a:solidFill>
                  <a:srgbClr val="984204"/>
                </a:solidFill>
                <a:latin typeface="Calibri"/>
              </a:rPr>
              <a:t>-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84204"/>
                </a:solidFill>
                <a:latin typeface="Calibri"/>
              </a:rPr>
              <a:t>грамотность и ее выразительность – одна из важных сторон общения людей друг с друго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42600" y="357120"/>
            <a:ext cx="7429320" cy="1000080"/>
          </a:xfrm>
          <a:prstGeom prst="rect">
            <a:avLst/>
          </a:prstGeom>
          <a:solidFill>
            <a:srgbClr val="f9b639"/>
          </a:solidFill>
          <a:ln w="255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44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204"/>
                </a:solidFill>
                <a:latin typeface="Calibri"/>
              </a:rPr>
              <a:t>Сложные  предлож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6" name="Подзаголовок 2"/>
          <p:cNvGrpSpPr/>
          <p:nvPr/>
        </p:nvGrpSpPr>
        <p:grpSpPr>
          <a:xfrm>
            <a:off x="165240" y="1547640"/>
            <a:ext cx="2597040" cy="1702080"/>
            <a:chOff x="165240" y="1547640"/>
            <a:chExt cx="2597040" cy="1702080"/>
          </a:xfrm>
        </p:grpSpPr>
        <p:pic>
          <p:nvPicPr>
            <p:cNvPr id="497" name="Подзаголовок 2" descr=""/>
            <p:cNvPicPr/>
            <p:nvPr/>
          </p:nvPicPr>
          <p:blipFill>
            <a:blip r:embed="rId1"/>
            <a:stretch/>
          </p:blipFill>
          <p:spPr>
            <a:xfrm>
              <a:off x="165240" y="1547640"/>
              <a:ext cx="2597040" cy="17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285840" y="1643040"/>
              <a:ext cx="235728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84204"/>
                  </a:solidFill>
                  <a:latin typeface="Calibri"/>
                </a:rPr>
                <a:t>Сложносочиненные предолжени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499" name="Прямая со стрелкой 4"/>
          <p:cNvCxnSpPr/>
          <p:nvPr/>
        </p:nvCxnSpPr>
        <p:spPr>
          <a:xfrm flipH="1">
            <a:off x="1213560" y="1141920"/>
            <a:ext cx="1143720" cy="42948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500" name="Прямая со стрелкой 6"/>
          <p:cNvCxnSpPr/>
          <p:nvPr/>
        </p:nvCxnSpPr>
        <p:spPr>
          <a:xfrm flipH="1">
            <a:off x="4355280" y="1143000"/>
            <a:ext cx="2520" cy="57240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501" name="Прямая со стрелкой 8"/>
          <p:cNvCxnSpPr/>
          <p:nvPr/>
        </p:nvCxnSpPr>
        <p:spPr>
          <a:xfrm>
            <a:off x="5857560" y="1142640"/>
            <a:ext cx="1429560" cy="42948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grpSp>
        <p:nvGrpSpPr>
          <p:cNvPr id="502" name="TextBox 11"/>
          <p:cNvGrpSpPr/>
          <p:nvPr/>
        </p:nvGrpSpPr>
        <p:grpSpPr>
          <a:xfrm>
            <a:off x="2835360" y="1695600"/>
            <a:ext cx="3363840" cy="1023840"/>
            <a:chOff x="2835360" y="1695600"/>
            <a:chExt cx="3363840" cy="1023840"/>
          </a:xfrm>
        </p:grpSpPr>
        <p:pic>
          <p:nvPicPr>
            <p:cNvPr id="503" name="TextBox 11" descr=""/>
            <p:cNvPicPr/>
            <p:nvPr/>
          </p:nvPicPr>
          <p:blipFill>
            <a:blip r:embed="rId2"/>
            <a:stretch/>
          </p:blipFill>
          <p:spPr>
            <a:xfrm>
              <a:off x="2835360" y="1695600"/>
              <a:ext cx="33638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3000240" y="1785960"/>
              <a:ext cx="3071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84204"/>
                  </a:solidFill>
                  <a:latin typeface="Calibri"/>
                </a:rPr>
                <a:t>Сложноподчиненные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84204"/>
                  </a:solidFill>
                  <a:latin typeface="Calibri"/>
                </a:rPr>
                <a:t>предложени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5" name="TextBox 13"/>
          <p:cNvGrpSpPr/>
          <p:nvPr/>
        </p:nvGrpSpPr>
        <p:grpSpPr>
          <a:xfrm>
            <a:off x="6267600" y="1620720"/>
            <a:ext cx="2955600" cy="1397160"/>
            <a:chOff x="6267600" y="1620720"/>
            <a:chExt cx="2955600" cy="1397160"/>
          </a:xfrm>
        </p:grpSpPr>
        <p:pic>
          <p:nvPicPr>
            <p:cNvPr id="506" name="TextBox 13" descr=""/>
            <p:cNvPicPr/>
            <p:nvPr/>
          </p:nvPicPr>
          <p:blipFill>
            <a:blip r:embed="rId3"/>
            <a:stretch/>
          </p:blipFill>
          <p:spPr>
            <a:xfrm>
              <a:off x="6267600" y="1620720"/>
              <a:ext cx="295560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6429240" y="1714680"/>
              <a:ext cx="2714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84204"/>
                  </a:solidFill>
                  <a:latin typeface="Calibri"/>
                </a:rPr>
                <a:t>Бессоюзные сложные предложени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8" name="Рисунок 9" descr="images.jpeg"/>
          <p:cNvPicPr/>
          <p:nvPr/>
        </p:nvPicPr>
        <p:blipFill>
          <a:blip r:embed="rId4"/>
          <a:stretch/>
        </p:blipFill>
        <p:spPr>
          <a:xfrm>
            <a:off x="1643040" y="3286080"/>
            <a:ext cx="5715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56760" y="285480"/>
            <a:ext cx="82155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984204"/>
                </a:solidFill>
                <a:uFillTx/>
                <a:latin typeface="Calibri"/>
              </a:rPr>
              <a:t>Сложносочиненное предложение </a:t>
            </a:r>
            <a:r>
              <a:rPr b="0" lang="ru-RU" sz="2900" spc="-1" strike="noStrike">
                <a:solidFill>
                  <a:srgbClr val="984204"/>
                </a:solidFill>
                <a:latin typeface="Calibri"/>
              </a:rPr>
              <a:t>– это сложное союзное предложение, части которого равноправны и связаны сочинительной связью с помощью интонации и сочинительных союзов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1420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84204"/>
                </a:solidFill>
                <a:uFillTx/>
                <a:latin typeface="Calibri"/>
              </a:rPr>
              <a:t> </a:t>
            </a:r>
            <a:r>
              <a:rPr b="1" i="1" lang="ru-RU" sz="3200" spc="-1" strike="noStrike" u="sng">
                <a:solidFill>
                  <a:srgbClr val="984204"/>
                </a:solidFill>
                <a:uFillTx/>
                <a:latin typeface="Calibri"/>
              </a:rPr>
              <a:t>Сложноподчиненное предложение </a:t>
            </a:r>
            <a:r>
              <a:rPr b="0" lang="ru-RU" sz="3200" spc="-1" strike="noStrike">
                <a:solidFill>
                  <a:srgbClr val="984204"/>
                </a:solidFill>
                <a:latin typeface="Calibri"/>
              </a:rPr>
              <a:t>– это сложное союзное предложение , части которого соединены подчинительной связью, т. е. одна является главной (независимой), а другая – придаточной (зависимой , подчиненной главной по смыслу и грамматически)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Заголовок 1" descr=""/>
          <p:cNvPicPr/>
          <p:nvPr/>
        </p:nvPicPr>
        <p:blipFill>
          <a:blip r:embed="rId1"/>
          <a:stretch/>
        </p:blipFill>
        <p:spPr>
          <a:xfrm>
            <a:off x="987480" y="237960"/>
            <a:ext cx="7504200" cy="944640"/>
          </a:xfrm>
          <a:prstGeom prst="rect">
            <a:avLst/>
          </a:prstGeom>
          <a:ln w="0">
            <a:noFill/>
          </a:ln>
        </p:spPr>
      </p:pic>
      <p:grpSp>
        <p:nvGrpSpPr>
          <p:cNvPr id="512" name="Подзаголовок 2"/>
          <p:cNvGrpSpPr/>
          <p:nvPr/>
        </p:nvGrpSpPr>
        <p:grpSpPr>
          <a:xfrm>
            <a:off x="60480" y="1335240"/>
            <a:ext cx="1804680" cy="2481120"/>
            <a:chOff x="60480" y="1335240"/>
            <a:chExt cx="1804680" cy="2481120"/>
          </a:xfrm>
        </p:grpSpPr>
        <p:pic>
          <p:nvPicPr>
            <p:cNvPr id="513" name="Подзаголовок 2" descr=""/>
            <p:cNvPicPr/>
            <p:nvPr/>
          </p:nvPicPr>
          <p:blipFill>
            <a:blip r:embed="rId2"/>
            <a:stretch/>
          </p:blipFill>
          <p:spPr>
            <a:xfrm>
              <a:off x="60480" y="1335240"/>
              <a:ext cx="1804680" cy="24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214200" y="1428840"/>
              <a:ext cx="150048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98989"/>
                  </a:solidFill>
                  <a:latin typeface="Calibri"/>
                </a:rPr>
                <a:t>с придаточными </a:t>
              </a:r>
              <a:r>
                <a:rPr b="1" lang="ru-RU" sz="2400" spc="-1" strike="noStrike">
                  <a:solidFill>
                    <a:srgbClr val="898989"/>
                  </a:solidFill>
                  <a:latin typeface="Calibri"/>
                </a:rPr>
                <a:t>определительным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15" name="Прямая со стрелкой 4"/>
          <p:cNvCxnSpPr/>
          <p:nvPr/>
        </p:nvCxnSpPr>
        <p:spPr>
          <a:xfrm flipH="1">
            <a:off x="999720" y="928800"/>
            <a:ext cx="3286800" cy="64332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516" name="Прямая со стрелкой 7"/>
          <p:cNvCxnSpPr/>
          <p:nvPr/>
        </p:nvCxnSpPr>
        <p:spPr>
          <a:xfrm flipH="1">
            <a:off x="2785320" y="928800"/>
            <a:ext cx="1500840" cy="71496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grpSp>
        <p:nvGrpSpPr>
          <p:cNvPr id="517" name="TextBox 9"/>
          <p:cNvGrpSpPr/>
          <p:nvPr/>
        </p:nvGrpSpPr>
        <p:grpSpPr>
          <a:xfrm>
            <a:off x="1908000" y="1474920"/>
            <a:ext cx="2170440" cy="2139840"/>
            <a:chOff x="1908000" y="1474920"/>
            <a:chExt cx="2170440" cy="2139840"/>
          </a:xfrm>
        </p:grpSpPr>
        <p:pic>
          <p:nvPicPr>
            <p:cNvPr id="518" name="TextBox 9" descr=""/>
            <p:cNvPicPr/>
            <p:nvPr/>
          </p:nvPicPr>
          <p:blipFill>
            <a:blip r:embed="rId3"/>
            <a:stretch/>
          </p:blipFill>
          <p:spPr>
            <a:xfrm>
              <a:off x="1908000" y="1474920"/>
              <a:ext cx="217044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2071800" y="1571760"/>
              <a:ext cx="18572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с придаточными </a:t>
              </a: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изъяснительным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20" name="Прямая со стрелкой 11"/>
          <p:cNvCxnSpPr/>
          <p:nvPr/>
        </p:nvCxnSpPr>
        <p:spPr>
          <a:xfrm flipH="1">
            <a:off x="4857480" y="999720"/>
            <a:ext cx="2160" cy="71532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grpSp>
        <p:nvGrpSpPr>
          <p:cNvPr id="521" name="TextBox 12"/>
          <p:cNvGrpSpPr/>
          <p:nvPr/>
        </p:nvGrpSpPr>
        <p:grpSpPr>
          <a:xfrm>
            <a:off x="3833640" y="1547640"/>
            <a:ext cx="2530800" cy="1768680"/>
            <a:chOff x="3833640" y="1547640"/>
            <a:chExt cx="2530800" cy="1768680"/>
          </a:xfrm>
        </p:grpSpPr>
        <p:pic>
          <p:nvPicPr>
            <p:cNvPr id="522" name="TextBox 12" descr=""/>
            <p:cNvPicPr/>
            <p:nvPr/>
          </p:nvPicPr>
          <p:blipFill>
            <a:blip r:embed="rId4"/>
            <a:stretch/>
          </p:blipFill>
          <p:spPr>
            <a:xfrm>
              <a:off x="3833640" y="1547640"/>
              <a:ext cx="2530800" cy="17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4000680" y="1643040"/>
              <a:ext cx="221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с придаточными </a:t>
              </a: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обстоятельственным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24" name="Прямая со стрелкой 14"/>
          <p:cNvCxnSpPr/>
          <p:nvPr/>
        </p:nvCxnSpPr>
        <p:spPr>
          <a:xfrm>
            <a:off x="5000400" y="1000080"/>
            <a:ext cx="2500920" cy="64332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grpSp>
        <p:nvGrpSpPr>
          <p:cNvPr id="525" name="TextBox 15"/>
          <p:cNvGrpSpPr/>
          <p:nvPr/>
        </p:nvGrpSpPr>
        <p:grpSpPr>
          <a:xfrm>
            <a:off x="6620040" y="1474920"/>
            <a:ext cx="2530440" cy="1768320"/>
            <a:chOff x="6620040" y="1474920"/>
            <a:chExt cx="2530440" cy="1768320"/>
          </a:xfrm>
        </p:grpSpPr>
        <p:pic>
          <p:nvPicPr>
            <p:cNvPr id="526" name="TextBox 15" descr=""/>
            <p:cNvPicPr/>
            <p:nvPr/>
          </p:nvPicPr>
          <p:blipFill>
            <a:blip r:embed="rId5"/>
            <a:stretch/>
          </p:blipFill>
          <p:spPr>
            <a:xfrm>
              <a:off x="6620040" y="1474920"/>
              <a:ext cx="253044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6786720" y="1571760"/>
              <a:ext cx="2143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с придаточными </a:t>
              </a: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присоединительным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28" name="Прямая со стрелкой 17"/>
          <p:cNvCxnSpPr/>
          <p:nvPr/>
        </p:nvCxnSpPr>
        <p:spPr>
          <a:xfrm flipH="1">
            <a:off x="4928400" y="3071880"/>
            <a:ext cx="2520" cy="64332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529" name="TextBox 18"/>
          <p:cNvSpPr/>
          <p:nvPr/>
        </p:nvSpPr>
        <p:spPr>
          <a:xfrm>
            <a:off x="4143240" y="3714840"/>
            <a:ext cx="214344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9b63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раза действия  и степе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с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лов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чин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авн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уп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едств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28800" y="428400"/>
            <a:ext cx="74865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204"/>
                </a:solidFill>
                <a:latin typeface="Calibri"/>
              </a:rPr>
              <a:t>Придаточные определительны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214200" y="1571760"/>
            <a:ext cx="8358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Они относятся к существительному или другому слову, употребленному в значении существительного, в главной части, давая ему характеристику или раскрывая призна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К придаточным определительным от главного предложения ставятся вопросы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какой? какая? како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Союзные слова: кто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, что, какой, чей, когда, где и др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Указательные слова: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такой, тот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Пример: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Петя подошел к тому месту, </a:t>
            </a: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откуда слышались выстрел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204"/>
                </a:solidFill>
                <a:latin typeface="Calibri"/>
              </a:rPr>
              <a:t>Придаточные изъяснительны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Они относятся к словам со значением речи, мысли и чувства(глаголу, наречию, отглагольному существительному, краткой форме прилагательного и др.) в главной части, уточняя или поясняя смысл этих слов. Придаточные изъяснительные отвечают на вопросы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косвенных падеж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Союзы: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что, как, будто, как будто, чтоб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Союзные слова: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что, кто, когда, где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Частица: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Указательное слово: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т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Пример: 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Он говорил о лете и том, </a:t>
            </a: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что быть поэтом женщине – нелеп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204"/>
                </a:solidFill>
                <a:latin typeface="Calibri"/>
              </a:rPr>
              <a:t>Придаточные обстоятельственны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204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Они отвечают на вопросы обстоятельств. Эти вопросы задаются от всего главного предложения или от состава сказуемого. По соотношению с членами предложения выделяются обстоятельственные придаточные места, времени, причины, следствия, образа действия и степени, сравнения, цели, условия, уступ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Пример: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Он вернулся домой, </a:t>
            </a: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когда его перестали уже жда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204"/>
                </a:solidFill>
                <a:latin typeface="Calibri"/>
              </a:rPr>
              <a:t>Придаточные присоединительны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Они выражают дополнительные сообщения относительно содержания главной ча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Придаточные присоединительные относятся ко всей главной части, к ним нельзя поставить вопро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Союзные слова: что, почему, отчего, зачем и т. 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Придаточная часть, как правило, стоит после главн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Пример: Вставая поутру, француз пил целебный бальзам, </a:t>
            </a: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отчего он и веселе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06:42:51Z</dcterms:created>
  <dc:creator>Samsung</dc:creator>
  <dc:description/>
  <dc:language>en-US</dc:language>
  <cp:lastModifiedBy>info</cp:lastModifiedBy>
  <dcterms:modified xsi:type="dcterms:W3CDTF">2010-05-24T10:13:44Z</dcterms:modified>
  <cp:revision>26</cp:revision>
  <dc:subject/>
  <dc:title>Какие виды сложных предложений вам известны?</dc:title>
</cp:coreProperties>
</file>